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voltage.wav" ContentType="audio/x-wav"/>
  <Override PartName="/ppt/media/image2.png" ContentType="image/png"/>
  <Override PartName="/ppt/media/image9.jpeg" ContentType="image/jpeg"/>
  <Override PartName="/ppt/media/image3.png" ContentType="image/png"/>
  <Override PartName="/ppt/media/image4.gif" ContentType="image/gif"/>
  <Override PartName="/ppt/media/image8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8268-EF58-40D7-9CB2-4A05986647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98D2-7CCB-46EA-BB6E-E9FDB2569A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76E1-8FF1-4081-A2E9-2F1393A92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9181-AF4F-406E-BDEC-9F20CCF7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EC71-65FB-4891-84A0-AC4A596BC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AEEA-9D0F-4DDE-906F-C97CECF1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52E7-5527-4BF7-8726-333F3216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17D0-F6D6-4457-B0FB-56386F88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1436-5CA8-41B4-A74F-6BA599EA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8FF8-0603-473B-B736-992EFB1B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B18F-ACBB-449B-A4E7-4002D1BD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E536-1875-4204-91DF-2DFEC5A3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E321-2F2C-4625-A9D9-27AD0AA5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27B4-EE6D-4FA6-A521-5865FB9B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2035-C310-4EC9-9A3D-503199F933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993600" y="822240"/>
            <a:ext cx="71568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О какой части речи говоритьс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050840" y="1444680"/>
            <a:ext cx="7042320" cy="47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Я – часть речи интересна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Широко в миру известна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пишу любой предмет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 этом равных со мной н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ечь со мною выразитель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 точна, и убедительн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тоб красиво говорить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Мною нужно дорожить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,-1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" dur="indefinite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9,9,-1)"/>
                                      </p:to>
                                    </p:set>
                                    <p:set>
                                      <p:cBhvr>
                                        <p:cTn id="9" dur="indefinite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Облако 1" descr=""/>
          <p:cNvPicPr/>
          <p:nvPr/>
        </p:nvPicPr>
        <p:blipFill>
          <a:blip r:embed="rId1"/>
          <a:stretch/>
        </p:blipFill>
        <p:spPr>
          <a:xfrm>
            <a:off x="317520" y="1122480"/>
            <a:ext cx="8502480" cy="3485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User\Downloads\s1200.png"/>
          <p:cNvPicPr/>
          <p:nvPr/>
        </p:nvPicPr>
        <p:blipFill>
          <a:blip r:embed="rId2"/>
          <a:stretch/>
        </p:blipFill>
        <p:spPr>
          <a:xfrm>
            <a:off x="6848640" y="500040"/>
            <a:ext cx="1904760" cy="1785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C:\Users\User\Downloads\4b3838a78cb28397da48aa52f4b0d7ee.gif"/>
          <p:cNvPicPr/>
          <p:nvPr/>
        </p:nvPicPr>
        <p:blipFill>
          <a:blip r:embed="rId3"/>
          <a:stretch/>
        </p:blipFill>
        <p:spPr>
          <a:xfrm>
            <a:off x="351000" y="620640"/>
            <a:ext cx="1517400" cy="128592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4789440" y="4572000"/>
            <a:ext cx="4118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Arial"/>
              </a:rPr>
              <a:t>Подготовила : Ляпина Е.В.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Arial"/>
              </a:rPr>
              <a:t>МБОУ «Криушинская СОШ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Arial"/>
              </a:rPr>
              <a:t>Вознесенского района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Arial"/>
              </a:rPr>
              <a:t>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Arial"/>
              </a:rPr>
              <a:t>20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Рисунок 14" descr=""/>
          <p:cNvPicPr/>
          <p:nvPr/>
        </p:nvPicPr>
        <p:blipFill>
          <a:blip r:embed="rId4"/>
          <a:stretch/>
        </p:blipFill>
        <p:spPr>
          <a:xfrm>
            <a:off x="1125360" y="4572000"/>
            <a:ext cx="1614600" cy="2021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1484280" y="981000"/>
            <a:ext cx="617544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Найди и исправь ошибки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олодая трав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звонкий ручей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голубые подснежни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яркое солнц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огода тёпл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1"/>
          <a:stretch/>
        </p:blipFill>
        <p:spPr>
          <a:xfrm>
            <a:off x="6516720" y="4405320"/>
            <a:ext cx="1614600" cy="20192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146160" y="907920"/>
            <a:ext cx="494964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 чашечке цветка сидел человечек. На голове у него сияла корона, за плечами развевались крылышки, а сам он был не больше Дюймовочк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.-Х. Андерс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. 96 у. 1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Рисунок 2" descr=""/>
          <p:cNvPicPr/>
          <p:nvPr/>
        </p:nvPicPr>
        <p:blipFill>
          <a:blip r:embed="rId1"/>
          <a:stretch/>
        </p:blipFill>
        <p:spPr>
          <a:xfrm>
            <a:off x="4992840" y="1163520"/>
            <a:ext cx="3614760" cy="45309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406440" y="754200"/>
            <a:ext cx="396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У занесённых снегом кочек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д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бел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шапкой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негов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шли мы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аленьк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цветочек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узамёрзший, чут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жив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398520" y="4199040"/>
            <a:ext cx="2725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ежны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листик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белы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бутон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есенн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цветочек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к зовётся он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398520" y="2476440"/>
            <a:ext cx="323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Н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есн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проталинк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рос цветик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аленьк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ячется в валежник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Беленьк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(ответ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4776840" y="844560"/>
            <a:ext cx="396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 Появился из-под снег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видал кусочек неб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мый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ервы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самый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ежны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Чистый, маленьк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(ответ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4776840" y="2467080"/>
            <a:ext cx="3682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ервым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ылез из темницы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есн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проталинк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н мороза не боится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оть и очен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аленьк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Рисунок 6" descr=""/>
          <p:cNvPicPr/>
          <p:nvPr/>
        </p:nvPicPr>
        <p:blipFill>
          <a:blip r:embed="rId1"/>
          <a:stretch/>
        </p:blipFill>
        <p:spPr>
          <a:xfrm rot="20736600">
            <a:off x="3552840" y="4508280"/>
            <a:ext cx="1074600" cy="19764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7" descr=""/>
          <p:cNvPicPr/>
          <p:nvPr/>
        </p:nvPicPr>
        <p:blipFill>
          <a:blip r:embed="rId2"/>
          <a:stretch/>
        </p:blipFill>
        <p:spPr>
          <a:xfrm>
            <a:off x="4643280" y="4089240"/>
            <a:ext cx="1614600" cy="22892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8" descr=""/>
          <p:cNvPicPr/>
          <p:nvPr/>
        </p:nvPicPr>
        <p:blipFill>
          <a:blip r:embed="rId3"/>
          <a:stretch/>
        </p:blipFill>
        <p:spPr>
          <a:xfrm flipH="1" rot="586800">
            <a:off x="6216120" y="4533480"/>
            <a:ext cx="1082880" cy="1976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11560" y="765000"/>
            <a:ext cx="669600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</a:rPr>
              <a:t>Прочитай. Найди имена существительные. Подбери к ним яркие и точные имена прилагательные. Перепиши текст с именами прилагательны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42064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Ранняя весна. В это время возвращаются красивые скворцы из жарких стран. Скворец –птица с оперением. Песенка у скворушки. Он певец весны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Рисунок 9" descr=""/>
          <p:cNvPicPr/>
          <p:nvPr/>
        </p:nvPicPr>
        <p:blipFill>
          <a:blip r:embed="rId1"/>
          <a:stretch/>
        </p:blipFill>
        <p:spPr>
          <a:xfrm>
            <a:off x="136440" y="495360"/>
            <a:ext cx="2059200" cy="2652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2411280" y="836640"/>
            <a:ext cx="5977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Рання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есна. В это время возвращаются скворцы из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алеких теплых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стран. Скворец –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расива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тица с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блестящи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чёрны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оперением. Песенка у скворушк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олнующая,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звонкая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Он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первы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евец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олгожданной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весны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Рисунок 9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1885680" cy="2428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6"/>
          <p:cNvSpPr txBox="1"/>
          <p:nvPr/>
        </p:nvSpPr>
        <p:spPr>
          <a:xfrm>
            <a:off x="949320" y="2471760"/>
            <a:ext cx="144612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3" name="WordArt 7"/>
          <p:cNvSpPr txBox="1"/>
          <p:nvPr/>
        </p:nvSpPr>
        <p:spPr>
          <a:xfrm>
            <a:off x="3708360" y="3062160"/>
            <a:ext cx="4029120" cy="7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вторил</a:t>
            </a:r>
            <a:endParaRPr b="1" lang="en-US" sz="10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4" name="WordArt 8"/>
          <p:cNvSpPr txBox="1"/>
          <p:nvPr/>
        </p:nvSpPr>
        <p:spPr>
          <a:xfrm>
            <a:off x="3780000" y="4219560"/>
            <a:ext cx="402408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апомнил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5" name="WordArt 9"/>
          <p:cNvSpPr txBox="1"/>
          <p:nvPr/>
        </p:nvSpPr>
        <p:spPr>
          <a:xfrm>
            <a:off x="3691080" y="1836720"/>
            <a:ext cx="2808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узнал</a:t>
            </a:r>
            <a:endParaRPr b="1" lang="en-US" sz="1800" spc="1" strike="noStrike">
              <a:ln w="2232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6" name="Line 10"/>
          <p:cNvSpPr/>
          <p:nvPr/>
        </p:nvSpPr>
        <p:spPr>
          <a:xfrm flipV="1">
            <a:off x="2627280" y="2060640"/>
            <a:ext cx="865080" cy="720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2700360" y="3357720"/>
            <a:ext cx="863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2700360" y="4076640"/>
            <a:ext cx="1008000" cy="432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Рисунок 10" descr=""/>
          <p:cNvPicPr/>
          <p:nvPr/>
        </p:nvPicPr>
        <p:blipFill>
          <a:blip r:embed="rId1"/>
          <a:stretch/>
        </p:blipFill>
        <p:spPr>
          <a:xfrm>
            <a:off x="324000" y="5238720"/>
            <a:ext cx="2931840" cy="1312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User\Downloads\s1200.png"/>
          <p:cNvPicPr/>
          <p:nvPr/>
        </p:nvPicPr>
        <p:blipFill>
          <a:blip r:embed="rId2"/>
          <a:stretch/>
        </p:blipFill>
        <p:spPr>
          <a:xfrm>
            <a:off x="7020000" y="195120"/>
            <a:ext cx="1904760" cy="1785960"/>
          </a:xfrm>
          <a:prstGeom prst="rect">
            <a:avLst/>
          </a:prstGeom>
          <a:ln w="0">
            <a:noFill/>
          </a:ln>
        </p:spPr>
      </p:pic>
      <p:sp>
        <p:nvSpPr>
          <p:cNvPr id="81" name="Подзаголовок 2"/>
          <p:cNvSpPr/>
          <p:nvPr/>
        </p:nvSpPr>
        <p:spPr>
          <a:xfrm>
            <a:off x="619200" y="846000"/>
            <a:ext cx="6400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Подумайте и выскажите свои мысли, начиная словам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Win10_Game_OS</cp:lastModifiedBy>
  <dcterms:modified xsi:type="dcterms:W3CDTF">2021-12-15T18:47:06Z</dcterms:modified>
  <cp:revision>180</cp:revision>
  <dc:subject/>
  <dc:title>Слайд 1</dc:title>
</cp:coreProperties>
</file>